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13F5-D6A7-43D7-9F5F-62ABD3FAC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849D-96CA-4EE1-9555-EAD4172B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183A-47E0-4E96-981D-BD369F31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159-7058-4687-99BA-B84234E9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828B-EE9B-49B6-B031-377E5DF1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BF53-A464-4F45-A50E-400992A1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646F-6B26-4859-B962-678DE33B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5F7-7E29-4AA0-8B85-43829F05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09A7-F4C3-4EBF-9275-5CBBC6E6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1E68-16C7-4FE7-8611-4430FA96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0E9E-2CDA-400F-A648-366060116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2431-C07A-4F9A-89E0-F30BA6DF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47D8-5EF9-4C6C-B2F5-9703CC9DA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OUTPUT_000052" descr=""/>
          <p:cNvPicPr/>
          <p:nvPr/>
        </p:nvPicPr>
        <p:blipFill>
          <a:blip r:embed="rId2"/>
          <a:stretch/>
        </p:blipFill>
        <p:spPr>
          <a:xfrm>
            <a:off x="1371600" y="4114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1752480" y="2743200"/>
            <a:ext cx="5334120" cy="10666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0" y="2932200"/>
            <a:ext cx="41911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تحس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1274760" y="1371600"/>
            <a:ext cx="6040440" cy="1279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5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79680" y="1538280"/>
            <a:ext cx="5486400" cy="96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يست مرضا ولكنها حالة عاب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دث لأسباب خارحية مث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شاغل وضيق الوق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3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324480" y="4102200"/>
            <a:ext cx="25956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ش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ذهن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348000" y="407988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ذ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نو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319800" y="5657760"/>
            <a:ext cx="25956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و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49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43000" y="4102200"/>
            <a:ext cx="2728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ي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348000" y="5603760"/>
            <a:ext cx="25956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رق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3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243000" y="5657760"/>
            <a:ext cx="27288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تحسين القدرات الذهن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274760" y="1371600"/>
            <a:ext cx="60404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579680" y="1447920"/>
            <a:ext cx="548640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سح نظارتك أو بدلها بنظارة جدي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/>
          <p:nvPr/>
        </p:nvSpPr>
        <p:spPr>
          <a:xfrm>
            <a:off x="6172200" y="3886200"/>
            <a:ext cx="297180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705720" y="4102200"/>
            <a:ext cx="190980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سرتى ليس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سجمة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886200"/>
            <a:ext cx="2971800" cy="1523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581280" y="4079880"/>
            <a:ext cx="20574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ط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در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/>
          <p:nvPr/>
        </p:nvSpPr>
        <p:spPr>
          <a:xfrm>
            <a:off x="6172200" y="5486400"/>
            <a:ext cx="2971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553080" y="5657760"/>
            <a:ext cx="198144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ديقى 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فى م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6" name=""/>
          <p:cNvSpPr/>
          <p:nvPr/>
        </p:nvSpPr>
        <p:spPr>
          <a:xfrm>
            <a:off x="76320" y="3886200"/>
            <a:ext cx="3124080" cy="16002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4102200"/>
            <a:ext cx="2195280" cy="113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أح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فه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يعرف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5410080"/>
            <a:ext cx="2971800" cy="1524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657600" y="5603760"/>
            <a:ext cx="19670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د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0" name=""/>
          <p:cNvSpPr/>
          <p:nvPr/>
        </p:nvSpPr>
        <p:spPr>
          <a:xfrm>
            <a:off x="76320" y="5486400"/>
            <a:ext cx="312408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00200" y="5657760"/>
            <a:ext cx="181440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هتم 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مى وأ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15228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90920" y="453960"/>
            <a:ext cx="350820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" y="2362320"/>
            <a:ext cx="863136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2514600"/>
            <a:ext cx="815328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قريبون يسيئون إلى فيرى العالم كما يحب أن يراه هو وليس كما العا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وى الدنيا المتضادات هيا نمسح الغبارعن النظارة أو نستبدلها بنظارة أخر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438280" y="5500800"/>
            <a:ext cx="426744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8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2666880" y="5638680"/>
            <a:ext cx="3807000" cy="97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قول الإمام على بن أبى طالب : الحلم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طاء ساتر والعقل حسام قاطع فاست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لل عقلك بحلمك وقاتل هواك بعق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79" name=""/>
          <p:cNvSpPr/>
          <p:nvPr/>
        </p:nvSpPr>
        <p:spPr>
          <a:xfrm>
            <a:off x="76320" y="16002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76120" y="1816200"/>
            <a:ext cx="185760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نفوسن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عقولنا كنو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حصى علي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شف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76320"/>
            <a:ext cx="7239240" cy="144756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447920" y="453960"/>
            <a:ext cx="609588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أيها المراهق أنظر إلى الحياة بايجابي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6781680" y="1616040"/>
            <a:ext cx="2362320" cy="12794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6934320" y="1752480"/>
            <a:ext cx="2046240" cy="105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رى 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ملوء من الإن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الفار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876920" y="1752480"/>
            <a:ext cx="1600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مان بأ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كون مدب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يخلق ش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160020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2590920" y="1739880"/>
            <a:ext cx="1827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حث عن المف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كل شى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اد الذى يع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نيع النشا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2895480"/>
            <a:ext cx="2362320" cy="12798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934320" y="29718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كر دائما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ناء وليس الهد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لا تحسد ولا تكر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8320" y="3048120"/>
            <a:ext cx="2057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أنفسنا د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غرور ونحب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ون تبعية أو امتهان 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2895480"/>
            <a:ext cx="2209680" cy="1295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2438280" y="3035160"/>
            <a:ext cx="1981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اءلوا بالخ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جدوه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 فش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كنه نجح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289548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52280" y="2971800"/>
            <a:ext cx="2086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اقع المر ل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تغير إلا بالتدري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طرات الماء تقط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صخرة العظي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7" name=""/>
          <p:cNvSpPr/>
          <p:nvPr/>
        </p:nvSpPr>
        <p:spPr>
          <a:xfrm>
            <a:off x="76320" y="4191120"/>
            <a:ext cx="2286000" cy="13078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228600" y="4406760"/>
            <a:ext cx="1933560" cy="9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جاح مره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عمل والصب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يس بالتمن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4191120"/>
            <a:ext cx="236232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097760" y="4427640"/>
            <a:ext cx="1817640" cy="90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صائب كل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نها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8320" y="4343400"/>
            <a:ext cx="2057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يوب يمك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صحيحها بالاتق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نوب بالتوب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4191120"/>
            <a:ext cx="2209680" cy="1295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592360" y="4330800"/>
            <a:ext cx="17510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ن مسئولو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أنفسنا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غير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6781680" y="548640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934320" y="5715000"/>
            <a:ext cx="2046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ضا نتائج أعمالن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تى ولو كانت صغ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دد العزم ونتوك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الل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76320" y="5486400"/>
            <a:ext cx="2286000" cy="13082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28600" y="5562720"/>
            <a:ext cx="19810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حب الصحة وال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علم والثقافةوال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نسامح ولا نعاد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1981080" y="0"/>
            <a:ext cx="5257800" cy="83808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7096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231840" y="1600200"/>
            <a:ext cx="3806640" cy="44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ه المهمة ليست سهلة ولكن أستطيع القيام به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43400" y="22860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412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دىء أعصاب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2743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343400" y="3352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3886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449568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43400" y="103824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84120" y="1004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فضل أن ن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43400" y="502920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780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حتاج إلى حركة ونشا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56181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2971800" y="166680"/>
            <a:ext cx="327672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اموس الايجاب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088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ب أن أتق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088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ا ش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37" name=""/>
          <p:cNvSpPr/>
          <p:nvPr/>
        </p:nvSpPr>
        <p:spPr>
          <a:xfrm>
            <a:off x="4343400" y="6303960"/>
            <a:ext cx="457200" cy="401760"/>
          </a:xfrm>
          <a:prstGeom prst="leftArrow">
            <a:avLst>
              <a:gd name="adj1" fmla="val 50000"/>
              <a:gd name="adj2" fmla="val 28450"/>
            </a:avLst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876920" y="1523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6920" y="2133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5261040" y="2224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تغض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2666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3200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809880"/>
            <a:ext cx="4267080" cy="6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76920" y="4419720"/>
            <a:ext cx="4267080" cy="547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76920" y="914400"/>
            <a:ext cx="426708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261040" y="1066680"/>
            <a:ext cx="32734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بدلا من القو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7" name=""/>
          <p:cNvSpPr/>
          <p:nvPr/>
        </p:nvSpPr>
        <p:spPr>
          <a:xfrm>
            <a:off x="4876920" y="4952880"/>
            <a:ext cx="4267080" cy="547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5184720" y="5105520"/>
            <a:ext cx="35784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كس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4876920" y="54856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876920" y="6171480"/>
            <a:ext cx="426708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5257800" y="5653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شعر بضع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257800" y="63388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خاف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5105520" y="2743200"/>
            <a:ext cx="3886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اليوم شاق ب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25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257800" y="3900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أظن أننى سأنجح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25780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لا أعتقد أنه يتحق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0880" y="2757600"/>
            <a:ext cx="350208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ذا اليوم مفعم ب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451008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آمل أن يتحق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7800" y="388620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إن شاء الله سأنج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7800" y="3290760"/>
            <a:ext cx="3502080" cy="3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سوف أحاول وأس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952880" y="1614600"/>
            <a:ext cx="4114800" cy="36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هذا عمل صعب أو هذه المهمة صعب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ة أسرار عملية للتفوق وال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365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74674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عتمد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كثر م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اسة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ف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6419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ذل الجه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ملاز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69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ل الح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و ع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نظر إلى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جان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يجاب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920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ج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قنا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حكم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377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733920" y="350532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ر عيسى وحواريو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على جثة كلب فقالو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نتن جيفة هذ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كلب فقال عيسى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: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أنظروا إلى أسنان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ما أشد بياضها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379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قول أحد الأدباء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إن أنت قلتها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إن سكت م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لها إذن ومت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79200" y="3581280"/>
            <a:ext cx="159732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هى اعطنى الشجاع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فى القدرة على تغيي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أقدر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عل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قناعة على تقبل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أشياء التى ل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مكننى تغييرها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والحكمة على معرفة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فرق بين الاثنين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391520" y="3657600"/>
            <a:ext cx="167616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راء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ترى 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5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ه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ما ت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تسمع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%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638680" y="3657600"/>
            <a:ext cx="1524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شتهر عبد الرحم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ن أبى حاتم الرازى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صاحب الكتاب العظي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(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جرح والتعديل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)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بملازمته لوالده وكث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أخذ عنه وكان يقو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ربما كان يأكل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مشى وأقرأ عليه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ويدخل البيت وأقرأ عليه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533520" y="228600"/>
            <a:ext cx="4727520" cy="354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الاتقا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لنجا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2163600" y="4114800"/>
            <a:ext cx="2192400" cy="18352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2370240" y="31957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جمال ماضى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2340000" y="5978520"/>
            <a:ext cx="182088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مع تحيات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قاوم الإهمال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6148440" y="1981080"/>
            <a:ext cx="2895480" cy="327672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276720"/>
              <a:gd name="textAreaBottom" fmla="*/ 3135600 h 3276720"/>
            </a:gdLst>
            <a:ahLst/>
            <a:rect l="textAreaLeft" t="textAreaTop" r="textAreaRight" b="textAreaBottom"/>
            <a:pathLst>
              <a:path w="21600" h="24444">
                <a:moveTo>
                  <a:pt x="3600" y="0"/>
                </a:moveTo>
                <a:arcTo wR="3600" hR="3600" stAng="16200000" swAng="-5400000"/>
                <a:lnTo>
                  <a:pt x="0" y="20844"/>
                </a:lnTo>
                <a:arcTo wR="3600" hR="3600" stAng="10800000" swAng="-5400000"/>
                <a:lnTo>
                  <a:pt x="18000" y="24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533412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542124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إن أى تساهل أو إهمال فى الأمور الصغيرة يصل إلى الأمور الكب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3176640" y="1981080"/>
            <a:ext cx="2965320" cy="3276720"/>
          </a:xfrm>
          <a:custGeom>
            <a:avLst/>
            <a:gdLst>
              <a:gd name="textAreaLeft" fmla="*/ 144720 w 2965320"/>
              <a:gd name="textAreaRight" fmla="*/ 2820600 w 2965320"/>
              <a:gd name="textAreaTop" fmla="*/ 144720 h 3276720"/>
              <a:gd name="textAreaBottom" fmla="*/ 3132000 h 3276720"/>
            </a:gdLst>
            <a:ahLst/>
            <a:rect l="textAreaLeft" t="textAreaTop" r="textAreaRight" b="textAreaBottom"/>
            <a:pathLst>
              <a:path w="21600" h="23868">
                <a:moveTo>
                  <a:pt x="3600" y="0"/>
                </a:moveTo>
                <a:arcTo wR="3600" hR="3600" stAng="16200000" swAng="-5400000"/>
                <a:lnTo>
                  <a:pt x="0" y="20268"/>
                </a:lnTo>
                <a:arcTo wR="3600" hR="3600" stAng="10800000" swAng="-5400000"/>
                <a:lnTo>
                  <a:pt x="18000" y="238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313080" y="2133720"/>
            <a:ext cx="26830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افىء أو عاقب نفسك :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حرم نفسك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راحة أو العم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ذى تحب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248520" y="2133720"/>
            <a:ext cx="261936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أل نفسك 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ماذا أقو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هذا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ركت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ماذا سيحدث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و تأخر العمل 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981080"/>
            <a:ext cx="2949480" cy="3276720"/>
          </a:xfrm>
          <a:custGeom>
            <a:avLst/>
            <a:gdLst>
              <a:gd name="textAreaLeft" fmla="*/ 144000 w 2949480"/>
              <a:gd name="textAreaRight" fmla="*/ 2805480 w 2949480"/>
              <a:gd name="textAreaTop" fmla="*/ 144000 h 3276720"/>
              <a:gd name="textAreaBottom" fmla="*/ 3132720 h 3276720"/>
            </a:gdLst>
            <a:ahLst/>
            <a:rect l="textAreaLeft" t="textAreaTop" r="textAreaRight" b="textAreaBottom"/>
            <a:pathLst>
              <a:path w="21600" h="23996">
                <a:moveTo>
                  <a:pt x="3600" y="0"/>
                </a:moveTo>
                <a:arcTo wR="3600" hR="3600" stAng="16200000" swAng="-5400000"/>
                <a:lnTo>
                  <a:pt x="0" y="20396"/>
                </a:lnTo>
                <a:arcTo wR="3600" hR="3600" stAng="10800000" swAng="-5400000"/>
                <a:lnTo>
                  <a:pt x="18000" y="239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79440" y="2162160"/>
            <a:ext cx="2668680" cy="28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حاسب نفسك : تم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عمالك حتى تستمت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بوقت مرح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143760"/>
            <a:ext cx="853452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230880"/>
            <a:ext cx="83059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قصة حديث سعد بن معاذ وقول النبى عند قبر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سيطر على نفسك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61" name=""/>
          <p:cNvSpPr/>
          <p:nvPr/>
        </p:nvSpPr>
        <p:spPr>
          <a:xfrm>
            <a:off x="6148440" y="1981080"/>
            <a:ext cx="2895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23000" y="4876920"/>
            <a:ext cx="2192400" cy="1143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0" y="4986360"/>
            <a:ext cx="1828800" cy="8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طرق السيط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ثلاث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/>
          <p:nvPr/>
        </p:nvSpPr>
        <p:spPr>
          <a:xfrm>
            <a:off x="3176640" y="1981080"/>
            <a:ext cx="296532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313080" y="2133720"/>
            <a:ext cx="26830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رد بذاته 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ضعيفة ولكن لا بد م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جماعية وإل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ستسلم الفر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يجابى لسل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مجمو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48520" y="2133720"/>
            <a:ext cx="2619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ستطاع أ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سيطر على الآل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كون والفضاء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الأرض ولكنه فشل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فى السيطرة ع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ه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981080"/>
            <a:ext cx="29494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0880" y="2171880"/>
            <a:ext cx="266868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انسان العاقل يستطي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أن يحول الانهزام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صر والسلبية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يجابية والانكسار إل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رتفاع بأن يجيد فنو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تعامل مع السلبي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6143760"/>
            <a:ext cx="8382240" cy="714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6230880"/>
            <a:ext cx="8156520" cy="550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مقياس نجاح ذلك على أمر واحد : وضوح الهدف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4876920"/>
            <a:ext cx="213336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487692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عرفة الانسا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فن معاملت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51460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أعمال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وأنواعه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880" y="5105520"/>
            <a:ext cx="16002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اجات الأساسي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لفرد والمجتمع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81080" y="7632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43828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حول الفشل إلى نجاح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/>
          <p:nvPr/>
        </p:nvSpPr>
        <p:spPr>
          <a:xfrm>
            <a:off x="4724280" y="3124080"/>
            <a:ext cx="431964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3124080"/>
            <a:ext cx="4495680" cy="2743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71680" y="3276720"/>
            <a:ext cx="392400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لم أوفق لحد الآن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لفشل يعنى تعلمت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اخترت طريقا آخر لمراد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كلا لدى الحجة للبداية من جدي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ى المحاولة والسعى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924440" y="3276720"/>
            <a:ext cx="3762360" cy="24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ت انسان فاش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م تفعل شيئ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لن تصل لمرادك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فشل أنك أتلفت حياتك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عنى عليك الرضوخ للواقع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5943600"/>
            <a:ext cx="8382240" cy="914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5943600"/>
            <a:ext cx="815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ديسون :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0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محاولة فاشلة قبل أن يخترع الكهرباء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نجاح والتفوق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الهام +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99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% جهد واجتهاد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/>
          <p:nvPr/>
        </p:nvSpPr>
        <p:spPr>
          <a:xfrm>
            <a:off x="5943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2057400"/>
            <a:ext cx="2133720" cy="10666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172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قول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600200" y="2286000"/>
            <a:ext cx="16002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معنى الحقيق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981080" y="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38280" y="3808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قض على التوتر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1752480"/>
            <a:ext cx="8458200" cy="2971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846000" y="2114640"/>
            <a:ext cx="73836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كفاية من النوم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ساعات والحصول على الراح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0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دقائق فترة الظهيرة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بدء بالحضروات والفاكهة بكميات كبيرة وحفض كميات اللحوم والدسم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حرص على التمرينات الرياضية يفرز الجسم الايدرفين المهدىء للمزاج 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70040" y="3352680"/>
            <a:ext cx="73832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نفس عميق وطويل وإخراجه ببطء يقلل من ضربات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قضاء وقت مع أصدقاء مرحين يتمتعون بالايجابية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بحث عن الضحك لتأثيره الايجابى فى دفع الاكتئا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648320"/>
            <a:ext cx="8458200" cy="22096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14400" y="4775040"/>
            <a:ext cx="73836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ي دراسة أمريك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جد التسامح فى داخلك واعط للآخرين أعذار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رغ مشاعر الغضب والخوف على ورق ثم مزقه وارم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66680" y="5715000"/>
            <a:ext cx="73836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تتعلم الصمت أثناء الغضب فلا داعى للكلام وأنت متوتر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لا تحكم على الآخرين فلست زعيم الكون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كن عطوفا على نفسك فلا تجلدها ولكن لا تضيع الفرص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استعن بالأصدقاء والأقارب والاخوان فى حل المشكلة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981080" y="2057400"/>
            <a:ext cx="533412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438280" y="2438280"/>
            <a:ext cx="44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طوات التغيير العشر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38880" y="3808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315200" y="5745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طوات 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الة ال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ربع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/>
          <p:nvPr/>
        </p:nvSpPr>
        <p:spPr>
          <a:xfrm>
            <a:off x="5599080" y="76320"/>
            <a:ext cx="1541520" cy="190476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4760"/>
              <a:gd name="textAreaBottom" fmla="*/ 1829520 h 1904760"/>
            </a:gdLst>
            <a:ahLst/>
            <a:rect l="textAreaLeft" t="textAreaTop" r="textAreaRight" b="textAreaBottom"/>
            <a:pathLst>
              <a:path w="21600" h="26689">
                <a:moveTo>
                  <a:pt x="3600" y="0"/>
                </a:moveTo>
                <a:arcTo wR="3600" hR="3600" stAng="16200000" swAng="-5400000"/>
                <a:lnTo>
                  <a:pt x="0" y="23089"/>
                </a:lnTo>
                <a:arcTo wR="3600" hR="3600" stAng="10800000" swAng="-5400000"/>
                <a:lnTo>
                  <a:pt x="18000" y="266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91320" y="27000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عتراف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خطأ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تجاه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لم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3843360" y="76320"/>
            <a:ext cx="1566720" cy="1904760"/>
          </a:xfrm>
          <a:custGeom>
            <a:avLst/>
            <a:gdLst>
              <a:gd name="textAreaLeft" fmla="*/ 76320 w 1566720"/>
              <a:gd name="textAreaRight" fmla="*/ 1490400 w 1566720"/>
              <a:gd name="textAreaTop" fmla="*/ 76320 h 1904760"/>
              <a:gd name="textAreaBottom" fmla="*/ 1828440 h 1904760"/>
            </a:gdLst>
            <a:ahLst/>
            <a:rect l="textAreaLeft" t="textAreaTop" r="textAreaRight" b="textAreaBottom"/>
            <a:pathLst>
              <a:path w="21600" h="26259">
                <a:moveTo>
                  <a:pt x="3600" y="0"/>
                </a:moveTo>
                <a:arcTo wR="3600" hR="3600" stAng="16200000" swAng="-5400000"/>
                <a:lnTo>
                  <a:pt x="0" y="22659"/>
                </a:lnTo>
                <a:arcTo wR="3600" hR="3600" stAng="10800000" swAng="-5400000"/>
                <a:lnTo>
                  <a:pt x="18000" y="2625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886200" y="270000"/>
            <a:ext cx="13683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سئو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ما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حس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76320"/>
            <a:ext cx="1600200" cy="1904760"/>
          </a:xfrm>
          <a:custGeom>
            <a:avLst/>
            <a:gdLst>
              <a:gd name="textAreaLeft" fmla="*/ 78120 w 1600200"/>
              <a:gd name="textAreaRight" fmla="*/ 1522080 w 1600200"/>
              <a:gd name="textAreaTop" fmla="*/ 78120 h 1904760"/>
              <a:gd name="textAreaBottom" fmla="*/ 1826640 h 1904760"/>
            </a:gdLst>
            <a:ahLst/>
            <a:rect l="textAreaLeft" t="textAreaTop" r="textAreaRight" b="textAreaBottom"/>
            <a:pathLst>
              <a:path w="21600" h="25710">
                <a:moveTo>
                  <a:pt x="3600" y="0"/>
                </a:moveTo>
                <a:arcTo wR="3600" hR="3600" stAng="16200000" swAng="-5400000"/>
                <a:lnTo>
                  <a:pt x="0" y="22110"/>
                </a:lnTo>
                <a:arcTo wR="3600" hR="3600" stAng="10800000" swAng="-5400000"/>
                <a:lnTo>
                  <a:pt x="18000" y="25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82680" y="270000"/>
            <a:ext cx="139860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ل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جم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حرر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وه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295200" y="76320"/>
            <a:ext cx="1533600" cy="1904760"/>
          </a:xfrm>
          <a:custGeom>
            <a:avLst/>
            <a:gdLst>
              <a:gd name="textAreaLeft" fmla="*/ 74880 w 1533600"/>
              <a:gd name="textAreaRight" fmla="*/ 1458720 w 1533600"/>
              <a:gd name="textAreaTop" fmla="*/ 74880 h 1904760"/>
              <a:gd name="textAreaBottom" fmla="*/ 1829880 h 1904760"/>
            </a:gdLst>
            <a:ahLst/>
            <a:rect l="textAreaLeft" t="textAreaTop" r="textAreaRight" b="textAreaBottom"/>
            <a:pathLst>
              <a:path w="21600" h="26826">
                <a:moveTo>
                  <a:pt x="3600" y="0"/>
                </a:moveTo>
                <a:arcTo wR="3600" hR="3600" stAng="16200000" swAng="-5400000"/>
                <a:lnTo>
                  <a:pt x="0" y="23226"/>
                </a:lnTo>
                <a:arcTo wR="3600" hR="3600" stAng="10800000" swAng="-5400000"/>
                <a:lnTo>
                  <a:pt x="18000" y="26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12920" y="326880"/>
            <a:ext cx="1339560" cy="134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ض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قتك 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وم 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أنهم السب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ستطي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قاد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صنع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 محاس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ى كل قو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فعل أو 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73915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تقيد نفس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طريقة التغي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هى ستأت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هد بالمت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لا تنتظ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ثال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 تؤ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تغيير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لتزم ب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متلك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وع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كيا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حل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خ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مار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ذات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 المسئو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فر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غير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ن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أو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362320" y="457200"/>
            <a:ext cx="44654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جعل الحظوظ حظوظ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35" name=""/>
          <p:cNvSpPr/>
          <p:nvPr/>
        </p:nvSpPr>
        <p:spPr>
          <a:xfrm>
            <a:off x="373392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9880" y="354636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0"/>
            <a:ext cx="1541520" cy="1905120"/>
          </a:xfrm>
          <a:custGeom>
            <a:avLst/>
            <a:gdLst>
              <a:gd name="textAreaLeft" fmla="*/ 75240 w 1541520"/>
              <a:gd name="textAreaRight" fmla="*/ 1466280 w 1541520"/>
              <a:gd name="textAreaTop" fmla="*/ 75240 h 1905120"/>
              <a:gd name="textAreaBottom" fmla="*/ 1829880 h 1905120"/>
            </a:gdLst>
            <a:ahLst/>
            <a:rect l="textAreaLeft" t="textAreaTop" r="textAreaRight" b="textAreaBottom"/>
            <a:pathLst>
              <a:path w="21600" h="26694">
                <a:moveTo>
                  <a:pt x="3600" y="0"/>
                </a:moveTo>
                <a:arcTo wR="3600" hR="3600" stAng="16200000" swAng="-5400000"/>
                <a:lnTo>
                  <a:pt x="0" y="23094"/>
                </a:lnTo>
                <a:arcTo wR="3600" hR="3600" stAng="10800000" swAng="-5400000"/>
                <a:lnTo>
                  <a:pt x="18000" y="266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44520" y="193680"/>
            <a:ext cx="119376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خارج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7424640" y="0"/>
            <a:ext cx="1567080" cy="1905120"/>
          </a:xfrm>
          <a:custGeom>
            <a:avLst/>
            <a:gdLst>
              <a:gd name="textAreaLeft" fmla="*/ 76320 w 1567080"/>
              <a:gd name="textAreaRight" fmla="*/ 1490760 w 1567080"/>
              <a:gd name="textAreaTop" fmla="*/ 76320 h 1905120"/>
              <a:gd name="textAreaBottom" fmla="*/ 1828800 h 1905120"/>
            </a:gdLst>
            <a:ahLst/>
            <a:rect l="textAreaLeft" t="textAreaTop" r="textAreaRight" b="textAreaBottom"/>
            <a:pathLst>
              <a:path w="21600" h="26258">
                <a:moveTo>
                  <a:pt x="3600" y="0"/>
                </a:moveTo>
                <a:arcTo wR="3600" hR="3600" stAng="16200000" swAng="-5400000"/>
                <a:lnTo>
                  <a:pt x="0" y="22658"/>
                </a:lnTo>
                <a:arcTo wR="3600" hR="3600" stAng="10800000" swAng="-5400000"/>
                <a:lnTo>
                  <a:pt x="18000" y="262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467480" y="193680"/>
            <a:ext cx="1368720" cy="13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حظوظ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اخل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س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وجه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مي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3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يو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فاء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حرك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درج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شهاد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7" name=""/>
          <p:cNvSpPr/>
          <p:nvPr/>
        </p:nvSpPr>
        <p:spPr>
          <a:xfrm>
            <a:off x="73152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73915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تف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ي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5627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د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ذ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فط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جاح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فو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جائ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335268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477120" y="354636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قو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روح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يمان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9051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سائ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د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تا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اق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رأ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ا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8006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320" y="49942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ثقاف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لمى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1828800"/>
            <a:ext cx="485640" cy="1509840"/>
          </a:xfrm>
          <a:prstGeom prst="upArrow">
            <a:avLst>
              <a:gd name="adj1" fmla="val 50000"/>
              <a:gd name="adj2" fmla="val 7772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19720" y="4800600"/>
            <a:ext cx="485640" cy="1371600"/>
          </a:xfrm>
          <a:prstGeom prst="downArrow">
            <a:avLst>
              <a:gd name="adj1" fmla="val 50000"/>
              <a:gd name="adj2" fmla="val 7060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6288120"/>
            <a:ext cx="8382240" cy="493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6324480"/>
            <a:ext cx="815652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الثقة بالنفس تعنى قبول المرء بحالته الحاضرة وتحسينها وتطويرها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905120" y="76320"/>
            <a:ext cx="5333760" cy="1752480"/>
          </a:xfrm>
          <a:prstGeom prst="beve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286000" y="457200"/>
            <a:ext cx="446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خمس طرق لإطالة العمر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73580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1032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دخ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552924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0556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إقل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كافي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467480" y="3505320"/>
            <a:ext cx="1600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يزيد 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30 </a:t>
            </a: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عاما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إلى العمر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/>
          <p:nvPr/>
        </p:nvSpPr>
        <p:spPr>
          <a:xfrm>
            <a:off x="54864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81080" y="2098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بتعاد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سمن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3646440" y="1905120"/>
            <a:ext cx="191628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733920" y="2098800"/>
            <a:ext cx="167328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ن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أ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محفوظ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1905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6320" y="2098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مرين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رياض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733920" y="3581280"/>
            <a:ext cx="15969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مواد الحافظ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تؤثر سلبيا عل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جهاز الهضمى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الاستعاضة 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بالفاكهة الموسمية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905120" y="3886200"/>
            <a:ext cx="1596960" cy="24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لحفظ القلب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وتجنب السكر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جب الابتعاد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عن الدسم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352680"/>
            <a:ext cx="1828800" cy="350532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505320"/>
              <a:gd name="textAreaBottom" fmla="*/ 3416040 h 3505320"/>
            </a:gdLst>
            <a:ahLst/>
            <a:rect l="textAreaLeft" t="textAreaTop" r="textAreaRight" b="textAreaBottom"/>
            <a:pathLst>
              <a:path w="21600" h="41398">
                <a:moveTo>
                  <a:pt x="3600" y="0"/>
                </a:moveTo>
                <a:arcTo wR="3600" hR="3600" stAng="16200000" swAng="-5400000"/>
                <a:lnTo>
                  <a:pt x="0" y="37798"/>
                </a:lnTo>
                <a:arcTo wR="3600" hR="3600" stAng="10800000" swAng="-5400000"/>
                <a:lnTo>
                  <a:pt x="18000" y="413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9200" y="3962520"/>
            <a:ext cx="1597320" cy="24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يضيف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إلى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عمر 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7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سنوات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543800" y="4572000"/>
            <a:ext cx="136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الإقلاع باعتدال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يضيف 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4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سنوات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91520" y="556272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3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لب ف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اليوم تساوى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خسارة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8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من العمر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38680" y="3581280"/>
            <a:ext cx="15242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لو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فنجان قهوة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فى اليوم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تساوى 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500</a:t>
            </a: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Arial Black"/>
              </a:rPr>
              <a:t>مليجرام كفايين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Arial Black"/>
              <a:ea typeface="Arial Black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562720" y="5410080"/>
            <a:ext cx="167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لو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فنجان + تدخين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قص = 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12</a:t>
            </a:r>
            <a:r>
              <a:rPr b="0" lang="en-US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 عاما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905120" y="3124080"/>
            <a:ext cx="5333760" cy="7621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286000" y="3270240"/>
            <a:ext cx="4465800" cy="46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طرق التغلب على الإحبا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/>
          <p:nvPr/>
        </p:nvSpPr>
        <p:spPr>
          <a:xfrm>
            <a:off x="5529240" y="2133720"/>
            <a:ext cx="170964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910120" y="227016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عو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مسيرة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حيا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133720" y="228600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جز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نجاز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/>
          <p:nvPr/>
        </p:nvSpPr>
        <p:spPr>
          <a:xfrm>
            <a:off x="3646440" y="2133720"/>
            <a:ext cx="191628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038480" y="228600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يجعل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شاب</a:t>
            </a: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هلا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1337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7016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غمو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كثي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76320"/>
            <a:ext cx="4876920" cy="974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8600" y="136440"/>
            <a:ext cx="4429080" cy="7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احباط هو التوتر إلى حد الاستسلام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 </a:t>
            </a: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الشعور بالعجز والرغبة فى الانطواء والعزل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5529240" y="1143000"/>
            <a:ext cx="170964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910120" y="1279440"/>
            <a:ext cx="110016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غ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جتماع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/>
          <p:nvPr/>
        </p:nvSpPr>
        <p:spPr>
          <a:xfrm>
            <a:off x="182880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133720" y="1295280"/>
            <a:ext cx="106668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عم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أسر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646440" y="1143000"/>
            <a:ext cx="191628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038480" y="1295280"/>
            <a:ext cx="1143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ضعو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نفس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/>
          <p:nvPr/>
        </p:nvSpPr>
        <p:spPr>
          <a:xfrm>
            <a:off x="73152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467480" y="4079880"/>
            <a:ext cx="159732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نفيس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النفس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م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5627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فريغ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ن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صاحب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7339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بكاء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394400" y="5527800"/>
            <a:ext cx="159732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بسيط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لحل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لا للتعقي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54864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5627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يات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ممارس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وتمت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9051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خرو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هواء 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طل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7339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نسيا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إسعاد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آخر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051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ز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جزء م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علاج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86200"/>
            <a:ext cx="1828800" cy="1447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76320" y="4079880"/>
            <a:ext cx="159696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سترجاع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5334120"/>
            <a:ext cx="1828800" cy="144756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6320" y="5527800"/>
            <a:ext cx="1596960" cy="102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التغذي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بروتين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عسل وقرف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11430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0880" y="1279440"/>
            <a:ext cx="10670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طريق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003300"/>
                </a:solidFill>
                <a:latin typeface="Arial Black"/>
              </a:rPr>
              <a:t>فى الصحة</a:t>
            </a:r>
            <a:endParaRPr b="0" lang="en-US" sz="2400" spc="1" strike="noStrike">
              <a:ln w="9360">
                <a:solidFill>
                  <a:srgbClr val="003300"/>
                </a:solidFill>
                <a:miter/>
              </a:ln>
              <a:solidFill>
                <a:srgbClr val="003300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0"/>
            <a:ext cx="4191120" cy="1143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257800" y="301680"/>
            <a:ext cx="350820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كيف تقاوم الإحباط 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7467480" y="99072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696080" y="135576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أسباب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467480" y="2057400"/>
            <a:ext cx="1524240" cy="1295280"/>
          </a:xfrm>
          <a:prstGeom prst="leftArrow">
            <a:avLst>
              <a:gd name="adj1" fmla="val 50000"/>
              <a:gd name="adj2" fmla="val 29419"/>
            </a:avLst>
          </a:prstGeom>
          <a:solidFill>
            <a:srgbClr val="ff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96080" y="2422440"/>
            <a:ext cx="10638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333300"/>
                  </a:solidFill>
                  <a:miter/>
                </a:ln>
                <a:solidFill>
                  <a:srgbClr val="333300"/>
                </a:solidFill>
                <a:latin typeface="Arial Black"/>
              </a:rPr>
              <a:t>نتائجه</a:t>
            </a:r>
            <a:endParaRPr b="0" lang="en-US" sz="2400" spc="1" strike="noStrike">
              <a:ln w="9360">
                <a:solidFill>
                  <a:srgbClr val="333300"/>
                </a:solidFill>
                <a:miter/>
              </a:ln>
              <a:solidFill>
                <a:srgbClr val="33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8:01:39Z</dcterms:created>
  <dc:creator> </dc:creator>
  <dc:description/>
  <dc:language>en-US</dc:language>
  <cp:lastModifiedBy>Gamal</cp:lastModifiedBy>
  <dcterms:modified xsi:type="dcterms:W3CDTF">2007-05-13T14:12:10Z</dcterms:modified>
  <cp:revision>52</cp:revision>
  <dc:subject/>
  <dc:title>عرض تقديمي من PowerPoint</dc:title>
</cp:coreProperties>
</file>